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023-B692-4368-A32B-B5F75FE8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B4B-C0C2-417D-A2DD-243C93E8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237-BC65-45AA-9141-42342EAE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16C-24D3-48FF-A4D7-139EB4B5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3F69-4AA9-4E17-AC93-A2D833C6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3CE4-DB53-43A5-BAEB-538C9265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B028C-2E16-4A06-A602-F73257B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7360F-AD71-4889-BEF3-E06A9132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EF69E-4D60-476C-BB1B-F0D5C62F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FB09F-8D91-482D-9ECD-E9903197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1EC99-A148-4366-9951-4552C5C0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600-F105-4194-994B-9B9C97CF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DC25A-CFC3-4442-92C8-ACB8700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071EE-B193-4548-9000-8A17DA0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F1F87-0683-4E19-9D71-4D5D480D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2CB60-2CA5-4856-9689-17980E6D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A79B-C1C9-4C75-BD20-79E59A9B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A98C-17AA-4531-8A5D-2B7D6A3A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0334-1146-460D-A2B2-D1E7A15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2DF9-4ADE-4659-848A-607143B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B984-0EBB-488E-9C7B-621DE0B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3B35-4554-44B1-88BB-E2536C60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864-A259-4AE9-89D5-AD80202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1D10-BC17-4725-AA78-2FA2DB1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723A-444F-4BD2-A840-1A0192D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B8FA-B281-4034-842A-3B7D949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8BFC-6492-4387-8196-A04F53A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8BC9-8659-491D-ADA7-9F91CCD8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148D-B951-42E9-9131-7BA3C63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E342-E74F-46CB-A071-A07C4B5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2ED-739C-4F6E-A0EE-17B60B2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75F-E040-463D-85B2-4E62F0A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51C-73D2-4F3D-9B7B-DB27EB1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081-0819-4CE4-83F0-645A277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28A-F0B1-4A3D-A9CE-EB0681E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F3C-1A09-4FD1-970A-C531DD6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35C2-F48B-419D-B7DB-DA55CB16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622E-4D3A-4860-B723-31FA3AA9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067C-F6E5-4088-BE1C-EE70AF03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401760"/>
            <a:ext cx="6956280" cy="1193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globalizzazi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5111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50920" y="1844640"/>
            <a:ext cx="26622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95000">
            <a:off x="0" y="692280"/>
            <a:ext cx="2411280" cy="1224000"/>
          </a:xfrm>
          <a:prstGeom prst="rightArrow">
            <a:avLst>
              <a:gd name="adj1" fmla="val 50000"/>
              <a:gd name="adj2" fmla="val 4925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648800">
            <a:off x="0" y="3284280"/>
            <a:ext cx="3059280" cy="1152360"/>
          </a:xfrm>
          <a:prstGeom prst="rightArrow">
            <a:avLst>
              <a:gd name="adj1" fmla="val 50000"/>
              <a:gd name="adj2" fmla="val 663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16360" y="12679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2924280"/>
            <a:ext cx="503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189000"/>
            <a:ext cx="244800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uzione  dista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620640"/>
            <a:ext cx="230508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ili di vita sim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256536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2637000"/>
            <a:ext cx="288108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bera circolazioni mer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92360" y="1125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4292640"/>
            <a:ext cx="309564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bera circolazione di pers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651640" y="494172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445000"/>
            <a:ext cx="4392360" cy="648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migrazione e città multiet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42:58Z</dcterms:created>
  <dc:creator>studente</dc:creator>
  <dc:description/>
  <dc:language>en-US</dc:language>
  <cp:lastModifiedBy>studente</cp:lastModifiedBy>
  <dcterms:modified xsi:type="dcterms:W3CDTF">2016-11-21T10:31:18Z</dcterms:modified>
  <cp:revision>6</cp:revision>
  <dc:subject/>
  <dc:title>Diapositiva 1</dc:title>
</cp:coreProperties>
</file>